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7D1-C31E-4661-9B1D-25F8C48A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4D7-EBB0-4880-B80A-87433FDC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5A7-DD2D-463E-857E-238121F0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3A3-A77C-4D6B-A06C-2BA57082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6F10-927A-485A-B0F1-91F1C901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401B-17C7-4123-8D50-AA5B5001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162B-2DDE-423C-940D-9C981D80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A215-235B-481B-90F7-4E26C041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0215-BEAD-44B5-BA56-3A4E8757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CEEE-2DEA-4497-A8E0-8FC50ABD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79CE-08C5-41E8-BEBA-BBBDC447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FE1-C019-4275-94AA-E231805F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0DB9-1120-4D43-82B0-B30BBCE5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A8D0-BEA8-4FCC-81F2-E1FEEC03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CED5-EE34-4B37-912C-91AF9E05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19E4-CED7-474A-99DF-A958E5B5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32E5-21AB-4903-97C5-47F29894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B3D-CD1F-4E5F-BCBF-0C9F2ACE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B29-A234-4DC5-A9FC-AD4B78D6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21F-6BD5-4501-9EF3-E674FB34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385-3C27-48AA-B219-7BEB26A3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EB8-47E5-4AC4-995D-18A3FA00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6FD-7EF9-4022-93DC-0F0B60E7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915-16D1-4E96-8151-2957D468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3F8E-2135-4DB5-9468-AA4FF28AFC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3994-74AF-495F-A808-BEC3CBE7DF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vedor de Dad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stalação e Configura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ão Li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4. Configurar o arquivo 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    lexm-db.propert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dite o arquivo recém criado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lexml-db.properties substituind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 usuario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senha do usuário e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string de conexão jdb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00200" y="4495680"/>
            <a:ext cx="6335640" cy="1676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76520" y="5257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27080" y="509436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. Configurando os script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dite os arquivos instalar.bat e validar.b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Lin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daptar os scripts para sua instalaçã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. Criar as tabelas no ban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Window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te o arquivo instalar.b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unix/linux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te o arquivo instalar.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ga do banco de d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7. Inserir metadados na base de dados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 o banco é MySQL utilize a partir da sua aplicação de exportação de metadados inserts do tip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ERT INTO `registro_item` (`id_registro_item`, `tx_metadado_xml`, `cd_status`, `cd_validacao` , `ts_registro_gmt`)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LUES('oai:ssinf.senado.gov.br:njur/112321', '$OAI_LEXML', 'N', 'I', UTC_TIMESTAMP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 o banco é Oracle a instrução modifica-se pouc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ERT INTO registro_item (id_registro_item, tx_metadado_xml, cd_status, cd_validacao , ts_registro_gmt) VALUES('oai:ssinf.senado.gov.br:njur/112321', '$OAI_LEXML', 'N', 'I', sysd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bre os 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regra de formação da coluna id_registro_item é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id_registro_item := prefixo_oai + "/" + chav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prefixo_oai      := 'oai:' + [orgao + "."] + dominio + ":" + sistema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chave            := identificador_interno  + [ ";" + detalhe]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identificador_interno := é a chave do sistema de origem do registr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EXEMPLO: 'oai:ssinf.senado.gov.br:njur/112321'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O valor 'N' da coluna cd_status significa que o registro é nov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O valor 'I' da coluna cd_validacao significa que o registro é pendente de validaçã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coluna ts_registro_gmt deve receber sempre a data atual UTC ('2008-08-08 08:08:08') dependendo do horário de verão são 2 ou 3 horas a mais do que o horário oficial de Brasília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coluna tx_metadado_xml deve receber o arquivo XML com os metadados de acordo com o schema lexml_oai.xsd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http://www.lexml.gov.br/sch/oai_lexml.xs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XML de Meta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lexml:LexML xsi:schemaLocation="http://projeto.lexml.gov.br/esquemas/oai_lexml.xsd" xmlns:lexml="http://www.lexml.gov.br/oai_lexml" xmlns:xsi="http://www.w3.org/2001/XMLSchema-instanc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Item formato="text/html" idPublicador="1" tipo="conteudo"&gt; http://www6.senado.gov.br/legislacao/ListaPublicacoes.action?id=132554 &lt;/Item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Item formato="text/html" idPublicador="1" tipo="metadado"&gt; http://www6.senado.gov.br/legislacao/DetalhaDocumento.action?id=132554 &lt;/Item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DocumentoIndividual&gt;urn:lex:br:federal:lei:1988-12-02;7682@inicio.vigencia;publicacao;1988-12-05~texto;pt-br &lt;/DocumentoIndividual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Epigrafe&gt;Lei nº 7.682, de 02 de dezembro de 1988&lt;/Epigrafe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Ementa&gt;ALTERA O DECRETO-LEI 2.406, DE 5 DE JANEIRO DE 1988, E DA OUTRAS PROVIDENCIAS.&lt;/Ementa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Relacionamento tipo="publicacao.oficial"&gt;urn:lex:br:imprensa.nacional:publicacao.oficial;diario.oficial.uniao:1988-12-05@1988-12-05;publicacao;1988-12-05~texto;pt-br&lt;/Relacionamento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&lt;/lexml:LexML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cução do Valid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8. Validando os registros novos no banco de dad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xecut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validar.bat (se window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h ./validar.sh (se unix/linux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urante o processamento são gerados os arquivos de erros e log de execuçã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imeiro é um relatório dos erros identificados durante a validação e o segundo somente um log dos registros process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e o arquivo validacao_err.txt para identificar os registros com er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O Log e os Erros também são registrados no banco de dad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76312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ódu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alidad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Banco de Dados com registro de metad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rograma que valida a estrutura e o perfil dos public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terface WEB OAI-PM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põe os metadados utilizando o protocolo OAI-PM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77040" y="0"/>
            <a:ext cx="3666960" cy="5791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4876920" cy="1433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8458200" cy="905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0" y="2514600"/>
            <a:ext cx="5410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Arquivo lexml_nbconfig.xml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Perfis dos publicado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13487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WEB – OAI-PM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piar arquivo oai.war para um container ja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Tomca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Jetty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OC4J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nfigurar/Atualizar em WEB-INF os arquiv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_nbconfig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idador - Pas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nstal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1. Criar conta no banco de 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2. Obter o arquivo de profi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3. Copiar o arquivo de configur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4. Configurar o arquivo lexm-db.proper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5. Configurar os scripts de validação e instal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6. Criar as tabel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arga dos Meta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7. Inserir metadados na base de 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xecução do Valid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8. Validar os metadados inseri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lação e Configuração do Valid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 Criando conta no banco de dados e databa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ando o Oracl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exemplo utilizando o sql*plu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 connect syste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*digite a senh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CREATE USER lexmluser IDENTIFIED BY lexmlpasswor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DEFAULT TABLESPACE us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TEMPORARY TABLESPACE tem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QUOTA UNLIMITED ON us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 GRANT CONNECT TO lexmlus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ando o Mysql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uario@localhost&gt;mysql -uroot -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create database lexmldatabas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GRANT ALL PRIVILEGES ON lexmldatabase.* to 'lexmluser'@'localhost' IDENTIFIED BY 'lexmlpassword' WITH GRANT OPTION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FLUSH PRIVILEGE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2. Obtendo o arquivo de pro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O arquivo de profile define as combinações possíveis dos elementos localidade, autoridade e tipo de documento de um public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Obs: Na fase de implantação, este arquivo XML será enviado por e-mail a partir do preenchimento da planilha "Perfil Provedor Dados.xls"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7724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367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828960"/>
            <a:ext cx="111538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. Copiar o arquivo de configuração do banco de dad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e estiver utilizando Oracl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Copie o arquivo 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\oracle\lexml-db-ORACLE.properties 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ara: 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e estiver utilizando Mysq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Copie o arquivo 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\mysql\lexml-db-MYSQL.properties para: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ara outros SGBD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Adaptar as strings de conexão e drivers para o sistemas gerenciador desejad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Copie o arquivo do drive JDBC para o diretório li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OBSERVACAO: caso você esteja usando o driver da Oracle veja se o arquivo é adequado a versão e release do seu gerenciad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aolima</cp:lastModifiedBy>
  <dcterms:modified xsi:type="dcterms:W3CDTF">2009-05-07T21:39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